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812-A2A4-4EE1-A0A5-C7EB1446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C06-4AAB-493F-918A-55E51DA3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199-EB91-45A0-9CB3-BC69948C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10A-9FEE-4510-9383-6AB297A6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142-1DA8-4072-877B-74CFBD84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8A9-D122-4EA2-9C22-0610A7FE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33B-0F22-491B-AC2E-08A2CB69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D6B-DEF9-4337-99E5-D2A8F942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980-8E5B-4400-AC45-9422B2ED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4C7-5655-4866-80BE-3AF707D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B29-0632-4655-AC96-44630529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CA7-B6E1-4321-8B4E-9DE1C8F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36F0-09C8-453A-8F0C-C92B7A9DD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ferris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380880"/>
            <a:ext cx="883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Ferris Whee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4724280"/>
            <a:ext cx="2438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aith Skrzel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2-17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mputer #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791320"/>
            <a:ext cx="563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562720"/>
            <a:ext cx="4876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d Bad Bo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eb. 27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3124440" cy="2082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6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00cc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erris"/>
          <p:cNvPicPr/>
          <p:nvPr/>
        </p:nvPicPr>
        <p:blipFill>
          <a:blip r:embed="rId1"/>
          <a:srcRect l="0" t="0" r="22583" b="0"/>
          <a:stretch/>
        </p:blipFill>
        <p:spPr>
          <a:xfrm>
            <a:off x="609480" y="380880"/>
            <a:ext cx="4572000" cy="181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Ferris"/>
          <p:cNvPicPr/>
          <p:nvPr/>
        </p:nvPicPr>
        <p:blipFill>
          <a:blip r:embed="rId2"/>
          <a:srcRect l="77270" t="0" r="0" b="0"/>
          <a:stretch/>
        </p:blipFill>
        <p:spPr>
          <a:xfrm>
            <a:off x="5791320" y="228600"/>
            <a:ext cx="303372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5943600"/>
            <a:ext cx="8534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eorge Ferri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2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ferri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nvention: The Ferris Wh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original Ferris Wheel was built in 1893 for the World’s 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2000 people could ride it at on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original Ferris Wheel was 250 feet tall, the height of a 25 stor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cost 50 cents to ride it back in 18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day it is still one of the most popular carnival 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0120" y="4038480"/>
            <a:ext cx="1244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nventor: George Fer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orge Ferris was born on February 14, 18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 was originally from Galesburg, 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orge earned a degree in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efore building the Ferris Wheel, he worked on railroad tunnels and bri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 died on November 21, 18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31:50Z</dcterms:created>
  <dc:creator>install</dc:creator>
  <dc:description/>
  <dc:language>en-US</dc:language>
  <cp:lastModifiedBy>install</cp:lastModifiedBy>
  <dcterms:modified xsi:type="dcterms:W3CDTF">2012-03-09T15:26:57Z</dcterms:modified>
  <cp:revision>11</cp:revision>
  <dc:subject/>
  <dc:title>Slide 1</dc:title>
</cp:coreProperties>
</file>